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1C8-B142-4AF5-A379-C9FB2CCC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AB8-A74D-4482-B9FA-0BFB8EF8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557-EDCC-4A5E-95C1-9D18C4B6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9123-AFB4-4DC8-8952-25C189EC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028-FEE5-4417-8069-E0AB4105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A0D-7F44-4DC6-A091-347BBAA3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759-5002-4096-B322-0FCB14D5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E27-339B-4134-B3BF-B08097A3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73C-4B37-4B63-B93E-04EEF74D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267-8E03-43D1-B48E-1419F950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516-F7C1-4839-B1E5-0FA3579B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9BB-0620-4E8D-95C7-DA54BFEB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8E72-C36A-4CD4-A81F-167A1EC9B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y Mo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/1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iss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“thymocyte” to replace im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definitions more precise. DN1 thymocyte  - CD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4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the concept of naïve versus antigen experienced T cell - instead of “ma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dditional T helper subsets - introduce transcription factors as part of the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1360" y="581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3840" y="1447920"/>
            <a:ext cx="8633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 T cell (E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ocyte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mature T cell located in the thy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1 thymoc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2 thymoc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3 thymocyte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e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4 thymocyte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 thymocy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l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going positive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 thymocy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going negative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 thymocy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 thymocy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T ce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K1.1 (CD56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1 restri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Treg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xP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pheral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0" y="1828800"/>
            <a:ext cx="904716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ïve T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t exposed to antigen; blood and lymphoi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t exposed to antigen; blood and lymphoi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xP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t exposed to antigen; blood and lymphoid organs (nTre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or T ce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gen experienced; blood &amp; peripheral tissues (help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gen experienced; blood &amp; peripheral t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ytotoxic perforin and granzyme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T cell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or Memory T ce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g experienced; blood &amp; periph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 experienced; blood &amp; periph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N W3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l Memory T ce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g experienced; blood &amp; lymphoi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+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 experienced; blood &amp; lymphoi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Effector T cells (help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2680" y="1523880"/>
            <a:ext cx="73054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elper 1 (Th1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-be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duce IFN-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ular immunity to intracellular pathogens; 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elper 2 (Th2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ATA-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duce IL-4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moral immunity; immunity to extracellular para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elper 17 (Th17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OR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produce IL-17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ular immunity; immunity to extracellular 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reg 1 (Tr1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duce IL-10; (no signature T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 immune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ed Treg (iTreg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xP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duce TGF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L-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 immune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effector T cells (cytotoxi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4320" y="1981080"/>
            <a:ext cx="8230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toxic T cells (CTL)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for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nzyme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ll infected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-be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m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duce IFN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 infected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2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N W3"/>
              </a:rPr>
              <a:t>GATA-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ヒラギノ角ゴ ProN W3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duce IL-4. IL-13; less cytotox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17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N W3"/>
              </a:rPr>
              <a:t>ROR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ヒラギノ角ゴ ProN W3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duce IL-17; ?cytotox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xP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ppress immune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3:14:05Z</dcterms:created>
  <dc:creator>Penelope Morel</dc:creator>
  <dc:description/>
  <dc:language>en-US</dc:language>
  <cp:lastModifiedBy>Penelope Morel</cp:lastModifiedBy>
  <dcterms:modified xsi:type="dcterms:W3CDTF">2008-05-13T12:28:47Z</dcterms:modified>
  <cp:revision>5</cp:revision>
  <dc:subject/>
  <dc:title>T cell ontology</dc:title>
</cp:coreProperties>
</file>